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883-3F97-475F-954C-B9B9FB00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0EA-D865-4226-97ED-11DF124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4737B-ACD1-47E9-B0AE-E041CAE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D31EE-C83C-445A-AE4C-A7CB16B4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A705A-97A7-4DAB-965D-9842E4F4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30F7B-1E7B-47BB-AE0F-16F5CD8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42FF5-8CCB-41AB-B99C-2A809A3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EEF89-B2F0-4456-A617-47DD228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86AD4-CD58-48B7-AEE8-8958CFB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EC6A0-1D82-41A5-B646-4C525908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06E12-287C-4701-8FA6-0845C64A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D2A42-20E6-43DB-9C2F-FDE658C5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00E-2236-4FF6-A5E9-1F559D14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803E8-9B90-4A91-A883-B0BD59BA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57910-8428-4074-9083-EF5F987A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0CFC2-8123-43E5-AD4A-55B1F1F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298EA-10BB-4A1C-A59D-F5CD6E25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C3E87-B94B-4ABA-8E1B-D18C4FC1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EC647-9788-45D2-A0C1-B7940FE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27E44-D3D5-45DB-AD83-A6C1B17C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142C6-3CE3-4B38-A9BF-6C0BCA2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E2A71-9FE9-4084-8601-6393447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BAF05-65B0-48BE-AEF6-4F67189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14B-6750-41A8-8528-05D1060E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51839-FC15-424B-8F72-6139D5A7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522C6C-8F00-464C-861B-258EA600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89F0B8-2EE4-4057-BD32-FB34110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73052-F0E8-4857-954C-B68D424C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62D3A0-822B-4497-B7A4-A01D698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EC3F5D-D8DC-4270-BB85-BDA3D81E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C5B8E4-AB1B-4E1F-A3EF-149A475E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B01D7E-BA19-42AA-9913-B8FB421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84D4F-57DA-476B-97BD-334EE15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2C5601-429D-40F1-8805-9D445C7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BA09B9-78C7-4C41-974D-D410D5F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F4824C-A399-4491-9CF4-FB2FA4B1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6373D-1C18-4263-819D-1FBD2F83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1A351-4773-4FA6-96BF-0A4EB702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7A6E9-51A1-4248-AB69-9260A8E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E25C1-4676-4F6D-85B1-90112CA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D8957-4F3C-409A-AA9E-19A3F80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B4AE0-591F-4077-8572-B9E1DA1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D6B34-21AB-4D82-A247-63AE965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CE62D-8025-495D-93E5-D2A69A5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8352A-FD27-468A-A1A3-8F675A3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B9E2E-2ED7-4D4E-B530-D136120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11F00-B1FD-4FC8-B843-CCCB9508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BFFD2-A00E-4D81-8C3C-64C1956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D45E3-1827-4604-A9D9-AEA80E91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1674EB-EF4E-48BE-8CFD-C29DDD49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665617-9422-4D94-A484-05CD6EC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089B12-2931-4BCC-9090-5BC06D47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9C0A0B-248D-4A32-B450-658C94F9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745FD0-2CC0-4219-BDC9-22B521F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EC5329-0905-4476-8AD5-61351156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804DCA-7226-4806-A4D5-83AC1E5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C91726-3082-4346-8B92-8245C3F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57C74C-D41A-492C-BDFE-5363185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1B2A82-EA11-4D21-B8FC-2703F12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208F70-7A44-4D96-9EA6-261CB48F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4228F9-1BC3-4391-86A5-1DDE1BA0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52C3A-100B-4502-9647-0201FEE2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F4B69-3947-4A6C-910E-40B58B26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B7BB2-152F-4C70-AE65-F37698F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7DE0B-2F13-455D-9E10-F31C65F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56BA8-3727-4533-9474-C2887993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145EE-ECB0-4945-A02B-80676D7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04A14-9B1C-4E31-B22A-0E2DA3E1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EEC6E-7C5A-4310-BF6C-705E93E8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628F5-AD09-4C7C-86B2-DDFCD7D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7A2D7-C61A-4F52-A294-05B17A1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D7E19-2674-4286-B4EC-4CB69BC5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E176A-EAB3-4DE3-98E2-94EE864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FBC4B-489B-4300-B1B7-71713AE7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2CA42-F19C-4CAA-A961-DC5EBFB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4F704-2CB3-4481-81A1-D05763A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50160-2E1B-449F-AC90-511DBC11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C3886-164B-4D8B-83EC-9F069B6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6D553-CF91-42BC-BEF5-077B741C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2E6F6-BA58-40C5-A38A-50FABAE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1DB75-3F06-4932-992F-47C25D2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0965B-A94D-4C95-AD90-495BE08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FAA04-D24E-4208-9C5E-93014CDC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9DC1D-2667-49FB-A7DA-D7E6630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E79B2-63BF-4AD8-B7B0-56930CEF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9356A-C83A-4F34-873E-5E381EC8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F5317-6DC1-4B86-8C17-9A0485B9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2F0DD-DB00-4706-B853-A777D3C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7A2C2-F1FE-41C3-B759-E2B10A0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BCCD7-45C1-4C32-9384-8027609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6DEB3-8F07-44AA-B251-93FB2E84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44350-AC00-4A9D-AA33-8F7FD95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FAC-FBC8-4390-A9AC-0416E36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08CF7-D698-49E4-9ECF-5B2C531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FCF97-71CB-482F-B1C0-6715F0E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4EB5B-71D7-4C1E-8624-A864B3D3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FEF38-ABC1-4C82-8D2A-301EB0A1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1FE91-7405-4FB0-A463-1B5DB276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B4D21-0B4B-4182-AD9E-BBC45A9F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5D6A6-30FC-4D71-ADA4-3CA15D6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46837-0D74-415D-B14D-F766619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3D72E-4A93-4F39-A40B-6682DC6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08BE7-8F1B-4829-B3DD-169BC208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8C296-4E59-4FE6-A276-F3533C3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719FB-BAC2-4908-950E-88E4ED8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24AF1-9007-408F-BFFB-0522394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FD0F2-F202-4729-B4A1-D52018E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52132-D9E7-4DA1-BA03-C35DBCD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7E242-EEA5-477B-BBDD-AE7B3670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10BE9-B1E9-4E59-823C-267F8A52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6431A-48F1-44A1-BE5F-8E473A83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A94D1-54AA-4D0B-A490-8B97844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ED4DB-03CF-46C1-ABC9-097C715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87CC1-B9AA-4CFD-808A-3AB67E8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BCA76-5294-4F5F-A633-DB2FDBD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60B98-713E-4B19-979E-0F28E47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F29D0-E18C-4146-BDBC-F11D569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06B5F-BAF4-4D27-90D0-A75ADF1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AAB36-E747-41EC-9B80-6809071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66B1D-F528-4C55-AE53-9794B6B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84987-DC31-48F3-8594-011BC3E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4A83B-56C4-448E-951C-4279677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73EF7-68E9-4678-84C5-331C5C54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F4C72-F222-49FA-B9FE-138D0C5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5B335-283F-4E7C-BD58-EE6B778F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94726-62D5-487C-B214-7E633B3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F8436-2FDF-4264-9521-6F479F31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3D92A-292C-4D41-8FBD-E2401D3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28AE2-0AD3-4C2E-A6A0-B440437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F8C73-51B8-463F-BC2A-17444BB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C8B6C-6CB4-4203-91A3-6477916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7502E-184F-4B8C-BD5E-ABF96F8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60030-939F-4E27-B899-D3B59857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BE102-F6C2-46C7-9E68-B7639D67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592BB-40F2-4D41-B303-583D89E8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10BC3-76FB-48A5-A176-731E01A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87147-C212-44AB-9DC8-F47DEFE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94CF1-1327-4521-904D-A5C4534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221C4-635C-4CD3-BF41-592B9F0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65D6E-A511-447B-8FBD-3CCA763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85648-9B1F-440C-8331-3DC513F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AEAC4-5F4A-4008-84AB-2E55D0B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B0E3B-D52E-4017-AE09-C047661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C01F2-71D2-435B-B1CF-53E0D152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07C09-973F-470A-8E48-49D22AC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D430B-93E5-4286-8692-D4E2640A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AF395-E417-45BD-9BA5-DC14CB91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7B868-FA2A-4AF9-B7E3-7B216DE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772E6-A42B-4860-9850-73AEF7C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E20D6-545D-462A-B862-32F29FFD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E90BF-B485-438B-92CD-110F9B9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1D3-54C0-404C-87BB-0CFFCCFF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0B5A2-2022-4D8F-9906-D668968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FD324-FBDF-4B75-BF95-2896ED9B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AE464-79A8-48BB-AEF2-9F16802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BFE41-D1D2-4485-ABB2-2F849CC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B9AEF-C067-4943-9113-BFACB87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A431D-F341-4042-906B-85E7FD3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41F97-6822-4497-A0FC-A88524DC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DB7E8-7E8D-4506-8B65-DDE1C50D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6EBED-715A-4373-A146-6E10730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89443-E888-4844-B154-D20EB78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3F2-87EF-4D98-940B-226540B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25C5E-1A6D-46DF-9033-CCAA8D1C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E8612-010D-47A3-8B74-0FADC06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6FA2F-086A-483B-8394-6B35149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AAD6C-C3B3-48CA-9C27-D45FC28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099FB-7452-4E14-9F21-CDA5A28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F9F82-8E63-43F9-9575-C99FC35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82FF0-7F49-4FC1-90E7-A8C74C4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40C30-B05B-4949-93BA-52CB3CB3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9F677-E109-4FEF-95E9-7B1C9D03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C57-2561-4E26-BA00-2D595C27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E68-6776-4F6F-B7E8-AA4AAC1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AFFEA-ABEB-485F-91F6-B226FF17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11219-C93E-4D6E-B0AC-0BB477C2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FA89C-47DF-4790-A674-A1DB011A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8868E-C6B1-4CE7-86D0-F3ABA3C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4371C-CAB6-4BBE-8C0B-7685CB7A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EF654-136C-41DD-A5C6-C64A3B9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94C2D-79F0-437D-BD30-BF53165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E848C-3DA0-4254-96A6-C851CF8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6F422-BEFA-4F93-B868-5DA19D3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B2F-799E-40A1-9AB4-008C451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66927-2F00-4E5E-BCCE-38DDE9E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9BEB67-749C-40D9-8D24-215A31F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2BC78-C7A6-4A5D-B206-BC34C540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CA7C45-5342-47CE-BFCF-03BD8237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AC7B93-CB38-4F8D-A76A-5D566DB3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970EE6-2A93-4C82-BFE7-9740741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83EAA-BD9F-4C0E-9DBF-B5DF8D9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D1715-ED10-4B63-972A-2BCB214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AC732F-A087-446C-A848-941C5D7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05063-DB58-4589-B2AF-9F01886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1F6-BE1F-4D43-8A48-A6F6A44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DFA3A-5835-40AB-81DF-7D45984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425DD-9A0F-466B-9C99-4A32327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E1238-750B-47D0-94CC-375323A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527B06-4A4D-4327-83E4-4E375799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F9C89-8EE7-4895-B770-5F38A14B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FC9BA-89AB-40B3-BD21-1921801C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EB790-BC44-4C3C-A80F-20B12D77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224FAD-9A05-42AD-BA47-AF25A9E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5ADA2E-FEEA-4123-8904-650AD4C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45417-C5AF-4E09-AA9C-FDDE9EE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C8B-29B7-4C45-92A8-456D3DE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26BE6-068D-4CF4-B75D-B9897E91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46BFC-DF3A-4AA7-8A85-1AF2E9D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346E5-E019-4553-ABCC-B322213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B52CA7-CCD1-41FE-BC63-11FF1FE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24008-14B3-43B4-9CFF-AF8F6D9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A86D5-F301-4A15-BE81-7393C94F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009D57-ED79-4B76-A7C1-6565C6E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01425-25C8-44A5-B05C-1C8A218C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CC87B-56AE-47B8-A8D7-D4BA1FF8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1320E-7023-40E5-AE04-7BA3BCBF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32B-332A-4016-A12F-B6AFEE1A3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7CB-A526-4BD7-A4BC-B3340E5CA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7B1-379D-4290-8BDD-DC5824E4E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7BF-CB3E-4EF5-8E62-CB775CF83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72D-A628-4EDB-AA91-E4C7A8675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43D-4AFE-4956-AB65-6BA635DB0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17B-3F4D-40F2-A0ED-E52831BE7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B679-19D1-4649-BB38-B32E600A2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F52-BC8D-4C40-8A57-2E27BEEFC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6F2C-58A2-4363-B945-36A1ACF01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28E-859C-4CEB-A8AB-598A29A0E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B82-2978-4CA0-B12C-5F643D20A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6B3-029E-42D0-9970-C0ED86D6A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2CC-5B0E-4DC4-B3B7-50D68316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BA7D-D88F-4189-A81A-434E74AD2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E457-2708-4C45-B6C3-029EDD8C6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48B5-2758-40B6-A645-F28631FBB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E151-F2D4-4509-B43C-6EF843E09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odule 21</a:t>
            </a: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anguage and Though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3124080"/>
            <a:ext cx="56386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nking and Language</a:t>
            </a: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1" name="Footer Placeholder 1"/>
          <p:cNvSpPr/>
          <p:nvPr/>
        </p:nvSpPr>
        <p:spPr>
          <a:xfrm>
            <a:off x="228600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anguage Influences Though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ewspeak” – language is the vehicle of thought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o we only think in language?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44" name="Content Placeholder 13" descr="1984-signet1981.jpg"/>
          <p:cNvPicPr/>
          <p:nvPr/>
        </p:nvPicPr>
        <p:blipFill>
          <a:blip r:embed="rId1"/>
          <a:stretch/>
        </p:blipFill>
        <p:spPr>
          <a:xfrm>
            <a:off x="4514760" y="2278080"/>
            <a:ext cx="3429000" cy="3556080"/>
          </a:xfrm>
          <a:prstGeom prst="rect">
            <a:avLst/>
          </a:prstGeom>
          <a:ln w="0">
            <a:noFill/>
          </a:ln>
        </p:spPr>
      </p:pic>
      <p:sp>
        <p:nvSpPr>
          <p:cNvPr id="945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4572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142d"/>
                </a:solidFill>
                <a:latin typeface="Times New Roman"/>
              </a:rPr>
              <a:t>New Language Learning Gets Harder with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Picture 2" descr=""/>
          <p:cNvPicPr/>
          <p:nvPr/>
        </p:nvPicPr>
        <p:blipFill>
          <a:blip r:embed="rId1"/>
          <a:stretch/>
        </p:blipFill>
        <p:spPr>
          <a:xfrm>
            <a:off x="1584360" y="712800"/>
            <a:ext cx="5968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inking and Languag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6212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anguage Influences Think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nking Without Langua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1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2263680" y="712800"/>
            <a:ext cx="4610160" cy="5435640"/>
          </a:xfrm>
          <a:prstGeom prst="rect">
            <a:avLst/>
          </a:prstGeom>
          <a:ln w="0">
            <a:noFill/>
          </a:ln>
        </p:spPr>
      </p:pic>
      <p:sp>
        <p:nvSpPr>
          <p:cNvPr id="95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142d"/>
                </a:solidFill>
                <a:latin typeface="Times New Roman"/>
              </a:rPr>
              <a:t>The Interplay of Thought and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nimal Thinking and Languag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 Animals Think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 Animals Exhibit Languag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he Case of the Apes  (see the Wiki on Koko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ut Can Apes Really Talk?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7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555480" y="1201680"/>
            <a:ext cx="8026560" cy="445788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142d"/>
                </a:solidFill>
                <a:latin typeface="Times New Roman"/>
              </a:rPr>
              <a:t>Gesture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1120680" y="712800"/>
            <a:ext cx="6896160" cy="5435640"/>
          </a:xfrm>
          <a:prstGeom prst="rect">
            <a:avLst/>
          </a:prstGeom>
          <a:ln w="0">
            <a:noFill/>
          </a:ln>
        </p:spPr>
      </p:pic>
      <p:sp>
        <p:nvSpPr>
          <p:cNvPr id="963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142d"/>
                </a:solidFill>
                <a:latin typeface="Times New Roman"/>
              </a:rPr>
              <a:t>Gesture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ome final thought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oints made about Language and Psycholog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ierce J. Howard, Ph.D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erisylvian Area (left hemisphere)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67" name="Text Placeholder 2" descr=""/>
          <p:cNvPicPr/>
          <p:nvPr/>
        </p:nvPicPr>
        <p:blipFill>
          <a:blip r:embed="rId1"/>
          <a:stretch/>
        </p:blipFill>
        <p:spPr>
          <a:xfrm>
            <a:off x="1971720" y="1981080"/>
            <a:ext cx="4608360" cy="41450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322560" y="515772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mmar and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71840" y="215280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s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ea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5280" y="5661000"/>
            <a:ext cx="8420040" cy="825480"/>
          </a:xfrm>
          <a:prstGeom prst="rect">
            <a:avLst/>
          </a:prstGeom>
          <a:solidFill>
            <a:srgbClr val="c3a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you’re deaf it is on this side and not the right hemisp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isual-spa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Questions for consideration: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ow did you “learn” (acquire) your mother tongu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ow do animals communicate?  Provide an example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rmones and Languag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Estrogen levels associated with better “languaging”. (see JAMA, April 1999)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w Language Grows Up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ildren of…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rofessional parents hear on average 2,100 words/hour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Working class: 1,200 words/hour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Those on welfare: 600 words/hour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n’t correct grammar; correct errors (propriety errors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eaching Reading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98240" y="1981080"/>
            <a:ext cx="370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honic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ord attack skills, i.e. “p” makes a /puh/ soun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352760" y="1981080"/>
            <a:ext cx="370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Whole langu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onsidered better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ord recognition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peed Reading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oor comprehension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Normal speed 200-300 word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aster means skipping word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anguage Developmen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cquiring Langua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We “acquire” our mother tongue. 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ages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abbling stage – universal sounds in all babies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t’s all about sounds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ne word stage – “Mama”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wo word stage – telegraphic speech.  Nouns and verbs.  Adjectives before nouns in English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7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011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3124080"/>
            <a:ext cx="56386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laining Language Development</a:t>
            </a: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2" name="Footer Placeholder 1"/>
          <p:cNvSpPr/>
          <p:nvPr/>
        </p:nvSpPr>
        <p:spPr>
          <a:xfrm>
            <a:off x="228600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kinne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anguage development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ssociation (sights with the sounds of words).  Example,  pointing to a bruise on mom’s face an infant might say, “Ouwee”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mmit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inforcements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oam Chomsk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inguistic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nnate Grammar (Universal grammar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8" name="Content Placeholder 7" descr="noamchomsky.jpg"/>
          <p:cNvPicPr/>
          <p:nvPr/>
        </p:nvPicPr>
        <p:blipFill>
          <a:blip r:embed="rId1"/>
          <a:stretch/>
        </p:blipFill>
        <p:spPr>
          <a:xfrm>
            <a:off x="4400640" y="2158920"/>
            <a:ext cx="3657600" cy="3794040"/>
          </a:xfrm>
          <a:prstGeom prst="rect">
            <a:avLst/>
          </a:prstGeom>
          <a:ln w="0">
            <a:noFill/>
          </a:ln>
        </p:spPr>
      </p:pic>
      <p:sp>
        <p:nvSpPr>
          <p:cNvPr id="929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1076400" y="712800"/>
            <a:ext cx="6985080" cy="543564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142d"/>
                </a:solidFill>
                <a:latin typeface="Times New Roman"/>
              </a:rPr>
              <a:t>Nature and Nu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gnitive Scientists: Statistical learning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9680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hildhood is critical for learning grammar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earning early means learning it best.  (See the chart next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5" name="Content Placeholder 7" descr="Untitled.png"/>
          <p:cNvPicPr/>
          <p:nvPr/>
        </p:nvPicPr>
        <p:blipFill>
          <a:blip r:embed="rId1"/>
          <a:stretch/>
        </p:blipFill>
        <p:spPr>
          <a:xfrm>
            <a:off x="4400640" y="2620800"/>
            <a:ext cx="3657600" cy="3332160"/>
          </a:xfrm>
          <a:prstGeom prst="rect">
            <a:avLst/>
          </a:prstGeom>
          <a:ln w="0">
            <a:noFill/>
          </a:ln>
        </p:spPr>
      </p:pic>
      <p:sp>
        <p:nvSpPr>
          <p:cNvPr id="936" name="Footer Placeholder 1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6800" y="2070000"/>
            <a:ext cx="3657600" cy="324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in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00640" y="1600200"/>
            <a:ext cx="3657600" cy="990720"/>
          </a:xfrm>
          <a:prstGeom prst="rect">
            <a:avLst/>
          </a:prstGeom>
          <a:solidFill>
            <a:srgbClr val="a3a3c2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orean and Chinese Immigrants to the USA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2:03:35Z</dcterms:created>
  <dc:creator>bfw</dc:creator>
  <dc:description/>
  <dc:language>en-US</dc:language>
  <cp:lastModifiedBy>Lessard</cp:lastModifiedBy>
  <dcterms:modified xsi:type="dcterms:W3CDTF">2008-11-16T06:39:00Z</dcterms:modified>
  <cp:revision>18</cp:revision>
  <dc:subject/>
  <dc:title>Module 29 Language and Thought</dc:title>
</cp:coreProperties>
</file>